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2249198"/>
        <c:axId val="86324856"/>
      </c:barChart>
      <c:catAx>
        <c:axId val="8224919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324856"/>
        <c:crosses val="autoZero"/>
        <c:auto val="1"/>
        <c:lblAlgn val="ctr"/>
        <c:lblOffset val="100"/>
        <c:noMultiLvlLbl val="0"/>
      </c:catAx>
      <c:valAx>
        <c:axId val="8632485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24919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85AD6-81AD-4123-AABE-E55349346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2F778-DA5F-4171-9520-8ED3ECB6E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BEFEA-4090-4701-A674-F9F4FBFB8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54C2A-51BD-4F95-8D27-3AA830289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A9F94-EAA4-416A-BBB9-58E7A82EC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4A37D-5232-4D63-8AF1-68402994E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CDEB8-683B-466A-B664-A03A3F1CE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97BC4-83D9-4E3D-9154-FC01722EF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A1AAA-50C8-4127-A0AB-5FBCAA3C9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0047B-0870-4362-80AC-3FC1AE6D1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BB29E-4ECA-4F57-960E-C275BC332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29665-16C7-46B6-921F-E41327413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9939CF-8B45-43BE-A949-F465E9F6175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