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46899"/>
        <c:axId val="88282008"/>
      </c:barChart>
      <c:catAx>
        <c:axId val="55646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82008"/>
        <c:crosses val="autoZero"/>
        <c:auto val="1"/>
        <c:lblAlgn val="ctr"/>
        <c:lblOffset val="100"/>
        <c:noMultiLvlLbl val="0"/>
      </c:catAx>
      <c:valAx>
        <c:axId val="88282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46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A1F-67B9-4CD0-A80E-70412ADF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D0A-B137-4B34-93F1-6DDD2116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59A-43DC-4364-B83A-04106581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EEA-7288-444E-9770-C8B5364F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E72-AFDD-451A-8F91-99A09BC2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291-CCB2-424C-B1F1-A55E44D7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8B1-4E50-42BE-A415-6434A59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AD1-2DFE-47E9-9F5D-4E4A29B9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55A-500F-4049-B7AE-4FF461A8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E03-E4DB-4E77-BB21-97E91081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5DB-BB0D-423F-A1B6-834526F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1AD-0FD1-472D-BEC4-D97667B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D335-9414-41CE-AE7E-C3C277D5D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