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455589"/>
        <c:axId val="27959318"/>
      </c:barChart>
      <c:catAx>
        <c:axId val="274555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59318"/>
        <c:crosses val="autoZero"/>
        <c:auto val="1"/>
        <c:lblAlgn val="ctr"/>
        <c:lblOffset val="100"/>
        <c:noMultiLvlLbl val="0"/>
      </c:catAx>
      <c:valAx>
        <c:axId val="279593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4555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D2E3-6A81-41AB-95F5-7ECC5976F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DE8C-0EAF-4B4D-A00B-80B971C2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3E2E-FB12-4442-A0BF-820B42BC5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3729-C248-41EB-B694-D4CCF547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EEAB-13DD-4A28-8E6A-081F2828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8E97-26E1-413C-B867-B83E9104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278B-5E43-479D-A8F4-475FE8A4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C50E-814E-4D96-A9BA-ED735021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DC52-29E7-4D08-BB06-A4E002E6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E582-64C0-4689-990B-D51971CD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265D-5D16-4B0F-919E-A592325F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BCAC-5154-4EFC-A61A-51D93880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22CA5-3EEB-404E-B6FE-CB91A131D5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