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02027"/>
        <c:axId val="73103720"/>
      </c:barChart>
      <c:catAx>
        <c:axId val="24302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03720"/>
        <c:crosses val="autoZero"/>
        <c:auto val="1"/>
        <c:lblAlgn val="ctr"/>
        <c:lblOffset val="100"/>
        <c:noMultiLvlLbl val="0"/>
      </c:catAx>
      <c:valAx>
        <c:axId val="73103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02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F4E-E902-44F4-A573-21F4E3F5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EAA-9882-42DB-B81A-066F26EF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A5B-98AE-40BF-8700-B97A3FB8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3A8-A808-46DE-8070-A9411F44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9FC-0915-45C8-8F23-9804FF1D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517-24EE-4E52-A6B0-97EB17CE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6B25-23E1-4ECA-AED6-C493E65C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CED-C8A3-49FB-8028-01E9EC4B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408-4605-459F-A755-26E6EF8B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81A-50A5-4FB9-BAD9-48DD2371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F4D-5A8E-4E26-97D3-2CD820F4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D7A-E078-4185-A48A-4BA4C03F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1DDEA-BDBF-45AB-ABE3-E22FA3CFFF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