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84655"/>
        <c:axId val="26293168"/>
      </c:barChart>
      <c:catAx>
        <c:axId val="64884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93168"/>
        <c:crosses val="autoZero"/>
        <c:auto val="1"/>
        <c:lblAlgn val="ctr"/>
        <c:lblOffset val="100"/>
        <c:noMultiLvlLbl val="0"/>
      </c:catAx>
      <c:valAx>
        <c:axId val="26293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84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1EA-D209-4013-AFED-C4F7A24D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E7F-5185-4423-B860-E0FFDAB4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52B-0DDE-4570-9F4A-24B9EBAE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ACF-C5D0-4DB0-A8E2-69F7717A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1C0-D79F-4DDD-9E2A-475CE821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5EF-830A-4098-8C23-14F2864D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385-ED79-4A8C-83BE-A392E25E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45E-C362-44CD-8885-6A2113FC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B61-0B13-4056-9E28-5C1EAC48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0EE-117F-4808-B4BC-1FC6911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B7C-80CD-4B64-8897-D48D76B9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F68-8187-4395-A4B3-7AE6B0EE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AA30E-37D9-462A-A8B8-7EE3E6B12A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