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88553"/>
        <c:axId val="15770348"/>
      </c:barChart>
      <c:catAx>
        <c:axId val="97188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70348"/>
        <c:crosses val="autoZero"/>
        <c:auto val="1"/>
        <c:lblAlgn val="ctr"/>
        <c:lblOffset val="100"/>
        <c:noMultiLvlLbl val="0"/>
      </c:catAx>
      <c:valAx>
        <c:axId val="15770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8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338-9034-419D-88E3-88E7820C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96F-0655-4326-8D71-6F033B3E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46F-F9B1-4535-BEEA-70C7BE1B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385-ED4D-4FE8-A6B5-31EF3A70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8EA-20B5-4295-9CF2-8B3B589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995-F984-4992-A641-0707896A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A26-681B-4F75-A941-A6C071AD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3B4-DC4B-4B9B-BCD5-53721016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ED9-E671-4B34-AEE9-9B0F3A02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16D-6416-4716-8CF9-82CDA80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ADF-3E93-41EF-9B23-902268D1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758-6AFB-43D8-977F-5D49993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09431-24FF-453D-AE3D-42EA13FB53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