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70416"/>
        <c:axId val="6015663"/>
      </c:barChart>
      <c:catAx>
        <c:axId val="24470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5663"/>
        <c:crosses val="autoZero"/>
        <c:auto val="1"/>
        <c:lblAlgn val="ctr"/>
        <c:lblOffset val="100"/>
        <c:noMultiLvlLbl val="0"/>
      </c:catAx>
      <c:valAx>
        <c:axId val="6015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70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5D8C-311A-4B7C-9A65-D5164463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76A-D33C-4125-A30C-8DEA02D3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03C7-F84A-4C21-A69C-09DE0A2A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196-32C4-4432-A306-B6C3A44BC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70B-1798-464C-A47A-6B5180DE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CAA-B3F6-4480-9330-039D61AD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E95B-E987-4165-8784-AA413881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34E-48DD-429C-ADAB-8E50A183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933-4B77-4094-AEEE-A7EC2998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95C2-F63B-4AD1-A3FF-AF116DA8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2D8-51FB-4EFB-AFC7-059E5369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44E2-4042-408E-AE49-57A7D72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8F0E7-C90E-4205-9F68-37D78B43D4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