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49358"/>
        <c:axId val="53710097"/>
      </c:barChart>
      <c:catAx>
        <c:axId val="64449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10097"/>
        <c:crosses val="autoZero"/>
        <c:auto val="1"/>
        <c:lblAlgn val="ctr"/>
        <c:lblOffset val="100"/>
        <c:noMultiLvlLbl val="0"/>
      </c:catAx>
      <c:valAx>
        <c:axId val="53710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49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275-9410-4F66-A965-8E9EC6E1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187-E59B-4C18-9D0B-511B956D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025-CE5E-4A1F-B978-912CA54C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11E-0387-41C8-A840-E9C8BBC7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A5B-C461-4518-B710-3D736A2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2AB-4BA2-4EDE-B7DB-99D1EDA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D8E-44BE-4898-973A-72C39737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EAF-3E84-4177-AC1E-0D6E8C6B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819-51BC-460E-A491-703B1C5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7CE-2A89-46C5-A605-27D7A45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989-BC90-49AE-885D-C5CB237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1C0-4540-4427-9E94-60F1699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D0FAA-E2BC-45B2-B6D3-CA9CCB0A92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