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85164"/>
        <c:axId val="20195514"/>
      </c:barChart>
      <c:catAx>
        <c:axId val="23285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95514"/>
        <c:crosses val="autoZero"/>
        <c:auto val="1"/>
        <c:lblAlgn val="ctr"/>
        <c:lblOffset val="100"/>
        <c:noMultiLvlLbl val="0"/>
      </c:catAx>
      <c:valAx>
        <c:axId val="201955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85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C0C-E353-4289-B43F-25740FD7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F67E-2B61-4AF3-8447-AFED2DF8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1D4F-43D1-494C-A13F-FF372041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B343-C90A-42F2-8E02-BF5F7438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D5CA-C441-464A-8A8E-E6854C33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7EFF-E106-4211-9695-C5D164F6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EEA2-976F-4761-9910-E1FC16E0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6A68-A09D-4DD1-81F5-4350CAB6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9654-0CBC-41C1-A7D6-EC837A91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34AB-D4A8-4232-B5EF-32BF8E25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6A5D-A743-4681-AAE3-7D1457A8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47C1-F116-4BB8-92FE-DE0D505B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2963C-22BF-4732-A774-7568CF2A11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