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34335"/>
        <c:axId val="53656027"/>
      </c:barChart>
      <c:catAx>
        <c:axId val="24734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56027"/>
        <c:crosses val="autoZero"/>
        <c:auto val="1"/>
        <c:lblAlgn val="ctr"/>
        <c:lblOffset val="100"/>
        <c:noMultiLvlLbl val="0"/>
      </c:catAx>
      <c:valAx>
        <c:axId val="53656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34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51F-59C7-4822-8C98-8F0449FA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BD6-90F5-4B1E-94D6-0309B414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B21-634A-47B9-8589-74323D22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645-7409-454C-9CB9-F390C062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20A-C0F8-485F-9AD6-AA0C17B7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3F9-7C27-48C0-945B-C687F05A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419-4833-4A6A-A10F-8104F8E4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CFB-144D-43A1-AD58-9C0869DC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189-A585-4E59-9D41-1D5D96A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3E1-407C-477D-914D-2CCBE73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898-B1FF-4CF4-AA8A-58E9F15F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0A6-82D1-49F2-99A5-182DCBE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BA73F-A5AC-4B25-B77A-4FC680A7F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