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93716"/>
        <c:axId val="85710100"/>
      </c:barChart>
      <c:catAx>
        <c:axId val="48093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10100"/>
        <c:crosses val="autoZero"/>
        <c:auto val="1"/>
        <c:lblAlgn val="ctr"/>
        <c:lblOffset val="100"/>
        <c:noMultiLvlLbl val="0"/>
      </c:catAx>
      <c:valAx>
        <c:axId val="85710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93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426-82E2-4456-9E74-07C951C0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FD5-538A-496E-9103-CA7870E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EE6-4590-4D7F-BEE7-2282CFEE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138-059E-4978-BB4F-565CE9CB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A77-7B0F-46AE-897D-61790556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97E-057F-483C-9691-486F9534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0B1-A075-424F-88C6-3B266C4C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A1E-578E-4AAD-9028-5F245E7E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D83-51CA-481D-9858-1272D401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393-1867-46D8-BA73-FE12DF72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703-F3C5-4222-B5BE-34E1F33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0B4-EA11-49DA-8F8B-855F41F1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66EFD-67EF-4D16-A8AC-EE491FB8C1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