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68832"/>
        <c:axId val="45665678"/>
      </c:barChart>
      <c:catAx>
        <c:axId val="61468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65678"/>
        <c:crosses val="autoZero"/>
        <c:auto val="1"/>
        <c:lblAlgn val="ctr"/>
        <c:lblOffset val="100"/>
        <c:noMultiLvlLbl val="0"/>
      </c:catAx>
      <c:valAx>
        <c:axId val="45665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68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014-CE82-48E2-8A40-40B368B3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3B2-8B56-4365-8EB7-AE736486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E38-CB4B-42F9-8191-9A0D2195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D18-A15F-48E1-8D0A-A8C11053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BC1-E257-45F3-B9CA-5EEEC5C4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E1C-49FE-48F8-8BBE-4E4F7B03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976-D078-49A7-BE6F-7F1069DB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6D1-FF5E-47C3-A05F-ADCF5C6A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D50-8B17-4EB4-9C23-067AD527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A73-6B5F-4572-90B2-159CB33E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712-CAF5-4468-BA2B-6B6B3B73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498-C1D5-4AD3-8799-49168540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FE7C3-353D-4F03-8530-C1241CDD5C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