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58162"/>
        <c:axId val="89238320"/>
      </c:barChart>
      <c:catAx>
        <c:axId val="25558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8320"/>
        <c:crosses val="autoZero"/>
        <c:auto val="1"/>
        <c:lblAlgn val="ctr"/>
        <c:lblOffset val="100"/>
        <c:noMultiLvlLbl val="0"/>
      </c:catAx>
      <c:valAx>
        <c:axId val="89238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8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03B-DC09-4E5E-A6A3-41A71D23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B68-883A-4C6D-819D-8F0DB54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5ED-8344-408B-8D32-432D718C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55B-8D90-4AAF-82FD-CBA1F43C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E77-B1BD-4F88-A50C-25E6F06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AD5-3906-4977-800A-E68C98E8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2C3-DD1F-4666-83E2-799D20E7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9EF-DF07-4D37-AC28-C86777A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46F-44F7-458F-9B82-F7A61641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F43-D6DE-4BEB-97FE-394CDA8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D25-F3A9-4E06-862A-6588F25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8A3-1A7C-4423-8EAA-C020A6E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1A6F7-6182-4E85-B36F-5F872F7AE4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