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62540"/>
        <c:axId val="4810803"/>
      </c:barChart>
      <c:catAx>
        <c:axId val="487625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0803"/>
        <c:crosses val="autoZero"/>
        <c:auto val="1"/>
        <c:lblAlgn val="ctr"/>
        <c:lblOffset val="100"/>
        <c:noMultiLvlLbl val="0"/>
      </c:catAx>
      <c:valAx>
        <c:axId val="4810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625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24E-EC48-4E48-9C6B-C8ADCE7F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49E-ADB2-4382-9331-C30C241D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77A-7336-49AE-9B50-C328B58D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2333-EE4F-46A5-B79B-1D9F0F15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4E2A-57F3-4A66-95DE-ADADBD14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D3C5-003C-4A27-B01F-A390358B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3EA-10C0-4F50-A94C-B8EF5DAD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366-605D-4D77-8D5C-55EF4D5B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0399-F50C-4169-B839-353A6F35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A3E-1CAB-47A1-BCD4-CCCFF2C6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5C28-8215-4310-8581-DC1A3376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01F-4A82-48D3-8DF9-AEF6C8C1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9030C-6784-4C77-8162-CE58B38776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