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20726"/>
        <c:axId val="28997817"/>
      </c:barChart>
      <c:catAx>
        <c:axId val="77020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97817"/>
        <c:crosses val="autoZero"/>
        <c:auto val="1"/>
        <c:lblAlgn val="ctr"/>
        <c:lblOffset val="100"/>
        <c:noMultiLvlLbl val="0"/>
      </c:catAx>
      <c:valAx>
        <c:axId val="28997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20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DB1-86F8-46BD-ACC1-4FFE752D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5ED-1937-471F-8165-2849A267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725-76FC-4C42-8977-371A7DE1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CA5-D2B0-45BC-B365-2AFD869B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239-F219-49AC-94FE-C0F1943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067-16E3-4A98-9605-6CA1B47B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010-C224-4668-BE4B-4B2E1433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11D-FD93-4954-9DA9-36B48893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CD1-4081-490D-998A-80CBD35A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455-0208-478B-B83D-E026499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F9F-C05A-4E4C-ABDA-8499AA61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5B2-FF5B-4162-8D1D-01AEBCC3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0A4F7-0507-4837-8A98-D152CE557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