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17518"/>
        <c:axId val="36840698"/>
      </c:barChart>
      <c:catAx>
        <c:axId val="83317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0698"/>
        <c:crosses val="autoZero"/>
        <c:auto val="1"/>
        <c:lblAlgn val="ctr"/>
        <c:lblOffset val="100"/>
        <c:noMultiLvlLbl val="0"/>
      </c:catAx>
      <c:valAx>
        <c:axId val="36840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17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487-5CD3-4E93-A1B6-A3AE9E9F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6BA-722D-4802-BA13-1F71662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89A-10F1-42C3-90B3-64A25CD5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B6E-A044-4D57-8D62-C8A14624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6A4-9A11-481A-92B5-B3A0B4A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953-8FDA-4AAB-B462-2FFC8F7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921-C517-4B68-813B-611C7402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94D-7ECB-4C66-9FF3-353AFBC6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2BE-9C09-4E28-B7B4-3F559380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E8D-CC13-4117-A5D2-B874CD0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E6B-E595-4CBC-816B-AF93A34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6A6-FF52-4106-BBA8-C2C84D8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C451D-A826-43E6-81FD-B11B5335A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