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64769"/>
        <c:axId val="36685475"/>
      </c:barChart>
      <c:catAx>
        <c:axId val="18064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5475"/>
        <c:crosses val="autoZero"/>
        <c:auto val="1"/>
        <c:lblAlgn val="ctr"/>
        <c:lblOffset val="100"/>
        <c:noMultiLvlLbl val="0"/>
      </c:catAx>
      <c:valAx>
        <c:axId val="36685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64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FCB-F8A6-4E1B-8C6D-212535BF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062-39A7-4D75-ADA1-517ED92D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C5A-E6EE-4A20-ABB7-947E3B28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472-2B85-4825-9F8C-34CCBF2D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7EB-79E8-4750-8EDA-208E5C1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F3F-B6F6-4169-9FAF-7FBC8887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94D-C866-4D28-B0C3-3400831A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02F-7FC3-46AB-9384-39DBACD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A0B-65FC-4677-ADD7-4120E74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29A-6CB4-49AF-9492-864EC82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717-CA98-40EB-ABDB-D063C0E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16F-8818-431B-9875-B3DAC5F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DF952-ACA1-4549-9707-A61354C4F4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