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12763"/>
        <c:axId val="97336537"/>
      </c:barChart>
      <c:catAx>
        <c:axId val="47012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36537"/>
        <c:crosses val="autoZero"/>
        <c:auto val="1"/>
        <c:lblAlgn val="ctr"/>
        <c:lblOffset val="100"/>
        <c:noMultiLvlLbl val="0"/>
      </c:catAx>
      <c:valAx>
        <c:axId val="97336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12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D09-2288-47E2-9822-87EE5951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7D0-E920-48EB-A20C-791FB7DE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277-7C3D-4068-B6D5-823943AD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DDF-8262-4576-9170-B7ACEBC7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D8E-83E9-4FED-A032-1A9E4E80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079-B25A-41F0-BDDA-267550BC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B97-5E40-4D89-80C8-8A557639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B3F-E2B2-4A4B-AAE6-3F7C17AC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3FF-5A3C-4008-B873-65370134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A18-BDA5-4B97-8300-0FA3E39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E15-2892-451B-A024-836C6AB4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9B6-4AF0-4920-8444-A640DBE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F3001-3297-4473-8A6D-C80881913F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