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91543"/>
        <c:axId val="22086770"/>
      </c:barChart>
      <c:catAx>
        <c:axId val="52491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86770"/>
        <c:crosses val="autoZero"/>
        <c:auto val="1"/>
        <c:lblAlgn val="ctr"/>
        <c:lblOffset val="100"/>
        <c:noMultiLvlLbl val="0"/>
      </c:catAx>
      <c:valAx>
        <c:axId val="22086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91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0FA-897A-42E0-9B52-1FB6804D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E0D-BFA6-4479-8E79-19581D4F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C15-86F5-435B-9650-DBC5C060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577-E658-4BE8-9A75-C2A19747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F0B-1E8A-4F27-872D-1F0A950B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E8B-C352-4E0B-8B13-CBC858D3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8E8-277D-410B-800C-125DAB2A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F11-4E4E-4444-B7FB-75F02110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50D-028C-44BF-8F9A-C9A57311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FB9-576E-4D31-8AA9-BDB9A5F5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E02-F76F-4B5B-893E-B77FB6E5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7A39-CB36-4651-AC7D-B51475EA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DB0A9-33BA-4D5A-B437-073E577D7E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