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681058"/>
        <c:axId val="13694477"/>
      </c:barChart>
      <c:catAx>
        <c:axId val="51681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94477"/>
        <c:crosses val="autoZero"/>
        <c:auto val="1"/>
        <c:lblAlgn val="ctr"/>
        <c:lblOffset val="100"/>
        <c:noMultiLvlLbl val="0"/>
      </c:catAx>
      <c:valAx>
        <c:axId val="13694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681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2F15-05DC-4467-8B8D-B541D390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BE41-BC1E-45B0-B225-CC7EB985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ADE-D9AB-48C9-A1D1-55F7D84F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D759-7AC2-49E9-B68E-665D04B8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1A98-DFB1-4BF7-B20C-51581014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862E-4978-48AD-94C8-225D3D1F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2F51-A4EE-4CDD-89A0-217D26C6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844-F089-42C8-B404-4EB821F8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71F6-24DF-490C-B27C-1C740700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C6C2-4890-4DAE-84B2-34C4D95A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866-94A0-42A6-8036-86676312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8A5-B891-4212-9FF0-A7AE922C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9C4E3-5CF1-4903-9FE3-C16E44B9D0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