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516973"/>
        <c:axId val="50748929"/>
      </c:barChart>
      <c:catAx>
        <c:axId val="775169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748929"/>
        <c:crosses val="autoZero"/>
        <c:auto val="1"/>
        <c:lblAlgn val="ctr"/>
        <c:lblOffset val="100"/>
        <c:noMultiLvlLbl val="0"/>
      </c:catAx>
      <c:valAx>
        <c:axId val="507489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5169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4FA0-3B16-43F8-8D84-FB359B509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89F2-04A2-45E2-A98C-81DCA2FF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054B-DFD0-43E7-9DE3-F9C069EB9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0693-80CE-472B-A387-C76620024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F021-8433-4908-B82E-1B6B940E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E964-AFD7-4E09-B127-D98A5699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2110-A7F7-4BF2-ACC7-C9BFDC80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41A7-F0DA-4093-90DD-5CCC16E3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9E96-2D81-4BF1-ACFA-682F297E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6F07-3685-4FF1-872A-5A1E528E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5B34-6880-46AB-BB55-4C2F6959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C032-FD27-4302-9F30-FE59B7D4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94B63-1D8B-4402-ACD4-2F5D583FA8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