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77729"/>
        <c:axId val="17883339"/>
      </c:barChart>
      <c:catAx>
        <c:axId val="523777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83339"/>
        <c:crosses val="autoZero"/>
        <c:auto val="1"/>
        <c:lblAlgn val="ctr"/>
        <c:lblOffset val="100"/>
        <c:noMultiLvlLbl val="0"/>
      </c:catAx>
      <c:valAx>
        <c:axId val="178833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777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DA6-4068-4A73-921F-A7CBCD4D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D627-E1EA-4A11-BC51-DB417AEC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E40-D537-4AF8-8603-930A40EE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5C9-6B3D-466F-9922-74755D41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009-3373-42C7-95E9-3E664795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7EF-CEDA-4E66-B6DF-6AD65245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4192-0E7F-49AB-8D7D-93D6DC51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3841-C919-473E-9B8C-E7E0FEA6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E5DF-CA6A-4659-BB95-D0A9422F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47A6-D857-4729-BF5F-9FAA3500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82FA-C3F4-4E81-BFA9-7FC43652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622-89BD-4FB8-821D-9EC7B15B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A4D95-33EA-468A-9989-CAAFDEB9A8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