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0936"/>
        <c:axId val="89209076"/>
      </c:barChart>
      <c:catAx>
        <c:axId val="81450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9076"/>
        <c:crosses val="autoZero"/>
        <c:auto val="1"/>
        <c:lblAlgn val="ctr"/>
        <c:lblOffset val="100"/>
        <c:noMultiLvlLbl val="0"/>
      </c:catAx>
      <c:valAx>
        <c:axId val="89209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0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52-9403-4673-9DF9-DB754170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85E-0105-4A4D-8E09-51D8322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AB1-33AA-4000-807C-49799C62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6EC-A24C-4E0C-B9E6-36403862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F93-0E2E-4E9F-A420-B2CAF06D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93A-BC32-4DF7-847D-217055C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4E9-D0DF-4B74-8C37-2337A7A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38C-1077-43E6-87D9-7AFF7EA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552-5AAD-4900-B820-095F5B6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787-3740-4EB0-A62E-D035289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7F9-1B6B-476E-B598-D4D1859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2DA-A886-46B0-8731-E94D0E4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F685-45DF-4EC8-93E7-27E6F1672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