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89857"/>
        <c:axId val="46474294"/>
      </c:barChart>
      <c:catAx>
        <c:axId val="98789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4294"/>
        <c:crosses val="autoZero"/>
        <c:auto val="1"/>
        <c:lblAlgn val="ctr"/>
        <c:lblOffset val="100"/>
        <c:noMultiLvlLbl val="0"/>
      </c:catAx>
      <c:valAx>
        <c:axId val="46474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89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71F-D668-4613-9FA8-64FDC57D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A0D-0458-4DFF-95E2-2C40C38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879-84BE-4790-854F-66578DE9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EAA-2E52-4BC1-99DF-F887C5F1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52E-090C-432B-BF12-9F41798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BFC-CCE3-465B-A8AD-057E58F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7A9-88E2-46F5-BC15-BF1A1B4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683-DC22-4E2D-B98A-E3C9FD2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5CC-30D9-48F5-AEDB-416F807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676-A014-470C-93D8-0FB1113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7B1-D3D8-4C49-A3FC-75B0F97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4A0-665D-4F61-9784-2820860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1111-0082-4EDE-A2A2-C149E61C4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