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67278"/>
        <c:axId val="88725612"/>
      </c:barChart>
      <c:catAx>
        <c:axId val="89667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25612"/>
        <c:crosses val="autoZero"/>
        <c:auto val="1"/>
        <c:lblAlgn val="ctr"/>
        <c:lblOffset val="100"/>
        <c:noMultiLvlLbl val="0"/>
      </c:catAx>
      <c:valAx>
        <c:axId val="88725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67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C67-948C-4B32-A912-F048A9CB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B2B-437C-4C05-87E5-9F8BA498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BC30-86E6-432D-A70A-71995471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B78-D253-4EDA-B19B-CBCF484F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9333-BB99-41CF-BE0F-58893D88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8F4-4AD0-4955-8BF4-EF62C956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B2E-7FD5-4437-83D3-B8D0BAF8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DDD-624F-418E-877C-81426557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160-0310-4B31-907B-FABBEB44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2F0-C42D-492A-A82B-74E362CE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8A5-538D-43AA-86F2-8E3366C2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6A1F-196A-4D47-82CC-2A059634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25654-964F-402A-ADA1-114E4602C6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