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40669"/>
        <c:axId val="52485564"/>
      </c:barChart>
      <c:catAx>
        <c:axId val="97940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5564"/>
        <c:crosses val="autoZero"/>
        <c:auto val="1"/>
        <c:lblAlgn val="ctr"/>
        <c:lblOffset val="100"/>
        <c:noMultiLvlLbl val="0"/>
      </c:catAx>
      <c:valAx>
        <c:axId val="52485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40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111-9D30-4E20-876D-5F33654B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C29-7F12-4D15-AD9B-198B53B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A00-282E-491F-B7CD-B8060045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09B-870C-4613-BABF-4AD38ABE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E06-D079-4457-A815-C531C6CF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AAE-20AC-49F3-AE6E-7C343BE6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E8C-A1FE-4E87-9AD9-A884C35E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081-0CB5-4E13-969F-EFB963E6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5CF-1EC9-46B4-8C56-78A193D5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C6B-0632-4AA8-A9D7-9DB35AC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980-3627-4EDA-A579-E10F52D9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715-7322-48C8-A2F4-FFA15D89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A2AA3-8828-4A57-924D-3CA993ABA4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