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3280643"/>
        <c:axId val="8923990"/>
      </c:barChart>
      <c:catAx>
        <c:axId val="2328064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23990"/>
        <c:crosses val="autoZero"/>
        <c:auto val="1"/>
        <c:lblAlgn val="ctr"/>
        <c:lblOffset val="100"/>
        <c:noMultiLvlLbl val="0"/>
      </c:catAx>
      <c:valAx>
        <c:axId val="892399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28064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89BDF-47BF-4497-8C22-12468D4A1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98C01-7C7B-4EBB-BBA6-7A3F0A01C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44A32-F605-4BF5-9ED8-5178959FF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17E59-D0BA-4C46-AF96-BDA1D6D55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3344E-26F3-4973-844E-08D331515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1FCAD-2A4D-4C60-8301-157E618BD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99441-AF18-4687-9FE6-6EF14F047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78452-3FC8-44D2-975D-DAFA83E37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8669A-F55E-4DF9-94A1-828901F1A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3FBB1-7CBA-41B7-A524-098862883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6BCEF-20BB-457B-9B29-1DDEE150E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D8851-7001-43E2-B322-3204ED2C0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F35A59-DFCA-4B88-BDF2-7457B596524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