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675594"/>
        <c:axId val="88204544"/>
      </c:barChart>
      <c:catAx>
        <c:axId val="276755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204544"/>
        <c:crosses val="autoZero"/>
        <c:auto val="1"/>
        <c:lblAlgn val="ctr"/>
        <c:lblOffset val="100"/>
        <c:noMultiLvlLbl val="0"/>
      </c:catAx>
      <c:valAx>
        <c:axId val="882045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6755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F2D7-7366-4E25-96EE-ADBA6ED79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8AAA-3912-4803-AA79-1F0B82106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B84B-2E8B-4469-81FC-BA76F7454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A851-B42B-4727-A2C2-28D540C0C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37C33-AB6D-47CF-AAB1-DF301515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69A4-559D-4F8C-8504-BB261680C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E90C-5FB2-4B97-A9AB-68C914AE4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A447-EE31-4D35-B014-2C9BB2D2D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E907D-FE03-48C8-9CEF-B8A91CF31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27B07-1FA2-4434-87E5-AEB72911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1F513-DC03-42C9-8939-5DD2D3A5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120A-0EB3-4EDE-AE25-0CC3A3E4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6FCAE6-AC58-44F6-9309-C69E96FCEFB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