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33336"/>
        <c:axId val="93121885"/>
      </c:barChart>
      <c:catAx>
        <c:axId val="51233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1885"/>
        <c:crosses val="autoZero"/>
        <c:auto val="1"/>
        <c:lblAlgn val="ctr"/>
        <c:lblOffset val="100"/>
        <c:noMultiLvlLbl val="0"/>
      </c:catAx>
      <c:valAx>
        <c:axId val="93121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3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A7B-F650-4261-BDC7-7F1D9AE9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6CC-CF15-481D-8204-7B025242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FEE-3EE9-4E23-935F-60C3136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BCD-CD2F-4017-8CA0-5403431F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12F-CA6D-4EEC-9B87-8A74DE44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EA8-9D16-481A-A63F-87EDB0C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29E-694B-4833-82BD-0BEBF98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C9A-C74F-4539-A8D1-66CBD65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037-5421-4473-A47B-07FAEAC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68A-0278-4776-97BC-6E83E9A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DE5-DE21-4C32-A0AE-02B12E4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1D8-9AF0-4AC5-9287-D5AC0B1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017D5-F1A0-4B62-B463-172678B6A0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