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914141"/>
        <c:axId val="68464779"/>
      </c:barChart>
      <c:catAx>
        <c:axId val="40914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64779"/>
        <c:crosses val="autoZero"/>
        <c:auto val="1"/>
        <c:lblAlgn val="ctr"/>
        <c:lblOffset val="100"/>
        <c:noMultiLvlLbl val="0"/>
      </c:catAx>
      <c:valAx>
        <c:axId val="68464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14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7D81-B2AD-475E-B6A8-187EEBB6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4B1-A366-4A5F-83C7-B9AC92F9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D9B-B86D-4F1A-BC8E-364C0DBC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492-330D-4876-A00A-C88B0169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9CC-57D6-4A37-AD0B-74242F67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718-6218-4243-B56E-97C4DAE6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015E-1FBC-425F-BD52-F5D3A9C6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0F5-CDEC-4E87-8555-0B4D66BF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FC9-C13C-43B1-890C-EC21A86F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528-38D3-4C49-8E88-9298F719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4AE-093F-4970-8D33-1B82D187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13B-5ADE-42C9-8533-F8C39D03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66A92-D325-4B41-BB25-DF1865FE73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