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962716"/>
        <c:axId val="14912813"/>
      </c:barChart>
      <c:catAx>
        <c:axId val="419627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12813"/>
        <c:crosses val="autoZero"/>
        <c:auto val="1"/>
        <c:lblAlgn val="ctr"/>
        <c:lblOffset val="100"/>
        <c:noMultiLvlLbl val="0"/>
      </c:catAx>
      <c:valAx>
        <c:axId val="149128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627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665D-B160-48AC-9ECC-BCB93BD1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5A02-D25E-4712-95EE-D1FE8F7B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B7CE-2E52-4451-9844-619B99D5B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3C22-3C57-4A8F-B6E9-2A46789FD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56B1-5ED4-44E8-B383-38A0ECF9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704B-842C-4FDA-9837-3C30EC8D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DA9C-DF23-485F-8FB0-EB805FCF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DB72-AD74-4E5F-8325-7914E59C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F842-B393-4F9B-A952-59AFB3AC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D5B6-50AF-48F9-9B79-084FA46D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6243-5515-46CC-B258-A606EE68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BA2D-977D-4D13-9EF7-8F437FDE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232AA-9FBA-42D7-8484-4CE4F9C7D6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