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5485"/>
        <c:axId val="49688291"/>
      </c:barChart>
      <c:catAx>
        <c:axId val="1675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88291"/>
        <c:crosses val="autoZero"/>
        <c:auto val="1"/>
        <c:lblAlgn val="ctr"/>
        <c:lblOffset val="100"/>
        <c:noMultiLvlLbl val="0"/>
      </c:catAx>
      <c:valAx>
        <c:axId val="49688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5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4FE-97F6-4D73-9BE2-6EBCDE62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8DB-4223-457F-8943-40234FBA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BA9-1188-4AC3-9B32-04B838F7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128-1ADC-48DB-AE6F-AD872780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0E2-3409-4E13-A93A-5F5B8E45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AB5-3825-47D9-9534-6C68B820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D44-123D-4803-9951-7216A442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FCF-EC45-46C9-98FE-7F55F140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81A-D362-4C49-9B9F-3AB1BBD3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52D-78AF-463A-9816-435D94B1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F44-65AC-4DB7-9BDE-7D981A8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5B8-7BD3-4AB9-899E-D3CB4538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8E6A9-BD44-48D0-BED1-7F9BE4F3AE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