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989711"/>
        <c:axId val="27763683"/>
      </c:barChart>
      <c:catAx>
        <c:axId val="429897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63683"/>
        <c:crosses val="autoZero"/>
        <c:auto val="1"/>
        <c:lblAlgn val="ctr"/>
        <c:lblOffset val="100"/>
        <c:noMultiLvlLbl val="0"/>
      </c:catAx>
      <c:valAx>
        <c:axId val="277636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897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3977-D895-4201-9522-5A181A0A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1227-B764-4465-9EA2-B91704A8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546A-053E-414E-941E-8B1AF41F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ADC5-89D8-4526-A13F-755C49CD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9909-A618-455F-9FF8-481B8D2B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457F-0389-4575-8EAB-0D7C3E13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EF6E-4357-44C5-9868-E0D796AC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917E-1BEF-4E3A-BF6C-8F4530C3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14E5-FC99-4445-8EBD-CC389533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0E30-B460-4D9F-AB95-AD6A237F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A8EC-2737-4FF1-B14A-AF570BCD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374D-AA42-4B40-AA35-87810DDC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7DB15-391B-45F3-9794-947A7292FF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