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788802"/>
        <c:axId val="48151354"/>
      </c:barChart>
      <c:catAx>
        <c:axId val="567888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151354"/>
        <c:crosses val="autoZero"/>
        <c:auto val="1"/>
        <c:lblAlgn val="ctr"/>
        <c:lblOffset val="100"/>
        <c:noMultiLvlLbl val="0"/>
      </c:catAx>
      <c:valAx>
        <c:axId val="481513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7888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9CD6-BB0E-4CC6-98E4-343C7C6BE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0ECA-424E-4F75-B5BD-D9FA9DF67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A31B-BB8C-47E0-A81D-862DA2F51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D09C-9DFE-4F90-B845-30D93540A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8CD9-FC1F-4898-B1B9-FC44782E7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69E7-F6C9-4B03-9517-A2DAFC1F6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E7E8-872F-4441-983F-500D2C774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11A8-9EC3-4619-A87C-343BEA4AA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17E2-7587-4779-9BAB-35E048A19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62CA-C920-4F2F-9E68-42575E2D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20E8-24E4-45E6-97CB-C2AEC45A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EE08-6676-453E-8FDD-758D16E4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1E551F-8C84-46F3-8C69-C8E43824F08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