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76139"/>
        <c:axId val="38292154"/>
      </c:barChart>
      <c:catAx>
        <c:axId val="16476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92154"/>
        <c:crosses val="autoZero"/>
        <c:auto val="1"/>
        <c:lblAlgn val="ctr"/>
        <c:lblOffset val="100"/>
        <c:noMultiLvlLbl val="0"/>
      </c:catAx>
      <c:valAx>
        <c:axId val="38292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76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2F9-3E86-405D-BDFD-AA49E150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8BF-DF36-4EFE-A9B6-D523B968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53D-2260-4F0E-ABF9-56054029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721-48B5-485B-A8D7-4CEE4522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51E-07DD-4A66-88E7-45D8E70F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44E-A0F3-4358-9FC1-D8F693CA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BFA-F5C8-4D00-9827-6927E4FD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89C-D761-478C-B869-D46363EE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F15-B4B4-41D2-89B7-CA18C01A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09A-92B0-4CFB-B2D2-8E4946A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10A-70AE-4AB3-A010-E3DBFC64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100-0877-4DED-A4F0-3CA652EC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E83AF-FD61-411E-8BB1-F447E32A3A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