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03021"/>
        <c:axId val="67334244"/>
      </c:barChart>
      <c:catAx>
        <c:axId val="90803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4244"/>
        <c:crosses val="autoZero"/>
        <c:auto val="1"/>
        <c:lblAlgn val="ctr"/>
        <c:lblOffset val="100"/>
        <c:noMultiLvlLbl val="0"/>
      </c:catAx>
      <c:valAx>
        <c:axId val="67334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3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3B1-9B0D-496E-92B6-D1077A5E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066-E734-4D6C-B138-915913BC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531-F69F-44B8-A09E-F0ABF893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469-FB10-42D0-9B88-E0C5B0ED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7A3-535B-4CBD-A4C8-9DCBCC88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DDF-B170-4824-ADE3-6EC719D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F3A-A982-42AA-9AB8-6F8B52A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3AF-5616-441E-B48D-0DD1F1C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38D-9C4C-4A2D-9E27-E54C7886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D78-E560-48A3-87E6-7139A5D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0AD-BA3E-4C3D-B900-DC1CBE3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B9B-B9BD-4D57-922B-3369D20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A4B8A-14B8-49CC-A12E-BFA3B989E9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