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109628"/>
        <c:axId val="50681663"/>
      </c:barChart>
      <c:catAx>
        <c:axId val="881096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81663"/>
        <c:crosses val="autoZero"/>
        <c:auto val="1"/>
        <c:lblAlgn val="ctr"/>
        <c:lblOffset val="100"/>
        <c:noMultiLvlLbl val="0"/>
      </c:catAx>
      <c:valAx>
        <c:axId val="506816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096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AED5-F22F-45FA-86CC-A0E73457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F73-5D01-4603-8AC3-A7BD449E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645F-C655-4CA4-9A24-4EFE041C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DDC0-9967-445D-9C77-9F78574F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EC6A-FD6D-41B1-AD48-C7009817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ACBC-28A9-4DB8-87F0-E28DB7F2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BC07-1EA8-4EE2-9CB1-DBF9DA72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64EE-AAF4-4150-929E-93BD5456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F877-34F1-44DC-923C-A7BD7A7B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1D73-5A69-4152-A67F-FB4E7A8D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CC6F-ECC7-47E0-A4B9-3E9F1788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26D7-1BFA-4EB6-A60D-7F264E0F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DFDA7-6192-47F6-BEE1-DDD56B4741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