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64227"/>
        <c:axId val="11529044"/>
      </c:barChart>
      <c:catAx>
        <c:axId val="2056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9044"/>
        <c:crosses val="autoZero"/>
        <c:auto val="1"/>
        <c:lblAlgn val="ctr"/>
        <c:lblOffset val="100"/>
        <c:noMultiLvlLbl val="0"/>
      </c:catAx>
      <c:valAx>
        <c:axId val="11529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823-6126-4B81-8F3A-5C642106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393-F444-4EE1-8A3D-F6A97DD9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42E-42E3-47D5-BFF2-8A48F216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FF6-204E-4980-8E99-F551EF84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E8A-6D51-43D4-9BBE-73DB08E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C4B-497F-4E76-B622-3BF1E4B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923-FF0F-4CF7-AE4F-61188A5E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8F3-BC33-4789-9692-4FA3789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433-7C13-41ED-AFDF-27182EF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B3F-F84E-4F39-93EE-918AD35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66-4063-428C-A4A2-E78B85F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F34-CF61-4936-BB7E-A1BEA1C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8CC1F-F4E0-49B2-9784-7A9809B51D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