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37424"/>
        <c:axId val="2318660"/>
      </c:barChart>
      <c:catAx>
        <c:axId val="68937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8660"/>
        <c:crosses val="autoZero"/>
        <c:auto val="1"/>
        <c:lblAlgn val="ctr"/>
        <c:lblOffset val="100"/>
        <c:noMultiLvlLbl val="0"/>
      </c:catAx>
      <c:valAx>
        <c:axId val="2318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37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C8B-0C54-4BCA-9231-5E76FC4E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47C-8B59-4747-9BBD-8B25C5C7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3C2-9880-433C-981C-F45C7886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4BA-3635-4738-91C2-5E9BA275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5A0-788B-47C9-B280-B272943C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904-5CDF-487A-B953-7784EEB9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EC4-33D6-4F47-840D-DD8F49A3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099-30D1-4CA7-B9AC-3968AC8C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7AD-528F-40C7-93BD-CE4E153C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F21-E2AD-4792-B2B7-CE4F96D8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156-22F1-4B44-B183-8475064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5F5-8565-4AFB-8AE5-AE873A41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4326C-FC71-413A-8702-723B260663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