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32380"/>
        <c:axId val="90108114"/>
      </c:barChart>
      <c:catAx>
        <c:axId val="18932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08114"/>
        <c:crosses val="autoZero"/>
        <c:auto val="1"/>
        <c:lblAlgn val="ctr"/>
        <c:lblOffset val="100"/>
        <c:noMultiLvlLbl val="0"/>
      </c:catAx>
      <c:valAx>
        <c:axId val="9010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32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DCD-0CA0-4794-A37D-41832178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172-07FC-4F77-AC40-873FAEA8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59B-EFEC-441C-9DC8-81D19A5D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865-39DB-45F2-93A6-BB5692CE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3F5-96F0-42B0-92E8-CE26DB50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F29-85B8-400D-AEE6-6F056ED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0B3-95A3-4F2B-8E03-4512B43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FF7-86DD-43CF-9BF3-E8A7248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35F-FE1C-4926-8C60-A4E3D175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F7D-7562-4524-A4C5-CC4CD9F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0B0-B2F5-4BEE-B567-085B0A7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46E-65ED-4E50-B214-5B80712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A8772-ACFF-453F-A32F-7C191C1FD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