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06184"/>
        <c:axId val="63565567"/>
      </c:barChart>
      <c:catAx>
        <c:axId val="96206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65567"/>
        <c:crosses val="autoZero"/>
        <c:auto val="1"/>
        <c:lblAlgn val="ctr"/>
        <c:lblOffset val="100"/>
        <c:noMultiLvlLbl val="0"/>
      </c:catAx>
      <c:valAx>
        <c:axId val="63565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6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173-C819-4207-8E72-C5B597C6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1D3-DD65-484D-A468-4AC924A4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264-AB6C-42FB-B0AE-52F6EBBD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182-B367-46D6-A902-EAED85EB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423-17A6-4B7F-8254-27D15F95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3CF-4AC0-4E47-99E9-7DEE57B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336-1C67-452E-BB2D-F935567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32E-0A7D-4EB2-81EE-1007B11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09D-61F4-420B-B4ED-ED69BDB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9F2-0B7F-468F-BB29-A4CDC48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3DA-2112-4EA8-9E08-94B215A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74F-577C-4D0A-A533-39981D6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1DD1A-61A8-4181-9AE5-B8CE41C09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