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82441"/>
        <c:axId val="19400503"/>
      </c:barChart>
      <c:catAx>
        <c:axId val="29182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00503"/>
        <c:crosses val="autoZero"/>
        <c:auto val="1"/>
        <c:lblAlgn val="ctr"/>
        <c:lblOffset val="100"/>
        <c:noMultiLvlLbl val="0"/>
      </c:catAx>
      <c:valAx>
        <c:axId val="19400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82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941-3AF6-4BE9-A765-A80EC603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B9F-9FF4-4F53-BDA1-D968FAC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404-C82D-4BFC-B5A0-047B160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969-2E9D-4C8C-97FF-56585591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98-369C-45EA-9462-A091D98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A4A-9984-4306-9FE9-958292A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221-A2ED-40A7-A1E4-F6EB7C93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671-3893-4832-AF4B-41A1398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ACA-E2D5-4592-834D-7D38C39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288-BD36-4D71-A985-44B6586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D77-9ACE-4774-969F-5D8FEF0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8B1-6017-47AC-9B1E-DCC3DDF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E798-22F2-4F89-9018-70B0AABCF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